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1642-E657-4458-8399-87019DCBBE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DF29-335C-46A6-91AD-E11F5AA138F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50C7-5190-4A43-A840-BA0F6B5E7CE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Verdana"/>
              </a:rPr>
              <a:t>Proiectarea evaluării produselor-model ale “elevilor”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9DD3-8B09-47B7-8C45-1B3DB9DBDA6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F77F-141D-487D-B0DF-98D98C89511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D25D-9E57-44BC-B904-80F64890EC2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F234-FDE5-4B22-962D-FE589687BFE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712A-B0AE-4033-8304-EA634A53A83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9E9F-CC42-40DA-9C6B-60A8E3E5DB1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0398-4A91-4E06-ADE6-538C20B6DFF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4216-6F09-4416-AC6B-ACF7291F241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http://isc4lugojna.wikispaces.com/  http://isc3timisoarana.wikispaces.com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F8F5-4921-47C9-8204-BB6D00B386D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19A2-79A3-44CB-8A92-3752FC02599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5CC5-85B4-497F-988A-D983EB87E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A309-D2C7-4D89-980E-68A662CD6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860C-33AD-4118-8330-BC0F3C48E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7541-A4D2-40BB-95E5-7F40E10A4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75CA-0FA2-4036-9E24-08A6A93F8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97CE-8CEF-4EB8-BCDC-21533BB5F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22F5-499F-45CD-8EE3-D4C99F198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972A-B11D-4E77-8B8A-3A27838CB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C412-6EF5-4504-931C-A8C86393A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51EC-83E5-4F00-A826-67A392423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6B45-BCDA-49C2-B396-42C4F1FD7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1726-56C7-4FA1-9BDF-0E862BDBA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F8FF-7788-405F-8512-08DA51A3B8B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9DCB-120C-40FA-875C-C2864A836CB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Picture 6" descr="_x0014_white-slideCraig.png                                           000009C9_x0008_PROJECTS                       00000000: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86080" y="1300320"/>
            <a:ext cx="5533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Computers are not magi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Teachers ar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034960" y="38545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FD12-16EF-4104-A36E-88990ED8ADD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3880" y="29520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Activitatea 2</a:t>
            </a:r>
            <a:br>
              <a:rPr sz="2800"/>
            </a:b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8640" y="1390680"/>
            <a:ext cx="8955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roiectarea evaluării produselor-model ale “elevilor”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0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9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roiectaţ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o evaluare sumativă destinată produselor-model “ale elevilor”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întrebările de la paginile </a:t>
            </a:r>
            <a:r>
              <a:rPr b="1" lang="fr-FR" sz="1800" spc="-1" strike="noStrike">
                <a:solidFill>
                  <a:srgbClr val="0c2e86"/>
                </a:solidFill>
                <a:latin typeface="Verdana"/>
              </a:rPr>
              <a:t>5.09 – 5.10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entru a identifica obiectivele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aplicaţiei elevului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3: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rearea unei evaluări a produselor-model “ale elevilor”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11–5.13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 funcţie de obiectivele identificate la pasul anterior (TEMA) realizaţi un instrument de evaluare a produsului elevului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OPŢIONAL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Treceţi în revistă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informaţia din aplicaţia Assessing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Projects 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pentru a crea o evaluare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http://educate.intel.com/ro/AssessingProjects/AssessmentStrategies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br>
              <a:rPr sz="24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Crearea strategiilor de evaluare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continuare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6000" y="1371240"/>
            <a:ext cx="8781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c2e86"/>
                </a:solidFill>
                <a:latin typeface="Verdana"/>
              </a:rPr>
              <a:t>La crearea (modificarea) unei evaluări aveţi în vedere</a:t>
            </a:r>
            <a:r>
              <a:rPr b="1" lang="en-US" sz="22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Rezolvaţi dvs. înşivă sarcina adresată elevi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Asiguraţi-vă că toate criteriile dvs.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conduc la atingerea obiectivelor ţinti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Limit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aţi numărul de obie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Cereţi opinia atât colegilor, dar şi elevilor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Scrieţ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ii într-un limbaj accesibil elevi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Evitaţi termenii ambig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Luaţi în calcul ordinea criteriilor dv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8B61-9F99-4C0F-9508-F3D1ADED9D9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9324-1440-42E5-92AA-812C26B0003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3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5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Revizuirea produselor-model “ale elevilor”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31840" y="1785960"/>
            <a:ext cx="89121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1: Revederea notiţelor personale, precum şi a observaţiilor colegilor referitoare la activitatea dvs.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notiţele personale din activităţile anterioare pentru a identifica zonele care pot fi îmbunătăţit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2: Revizuirea produselor-model “ale elevilor”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TEMĂ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Revizuiţi propriul produs-mode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siguraţi-vă că aţi răspuns la toate întrebările din fiş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“ale elevilor” -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(4.19) (Mod 4 planificarea în avans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43D3-38A8-4201-951B-4B2FDB85B86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2800"/>
            </a:br>
            <a:br>
              <a:rPr sz="28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4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16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zuirea 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ului unităţii de învăţare</a:t>
            </a:r>
            <a:r>
              <a:rPr b="0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5)</a:t>
            </a:r>
            <a:br>
              <a:rPr sz="16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7640" y="2045880"/>
            <a:ext cx="83214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ul u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vs.de învăţa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inaliza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Rezumatul evaluăr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Lista de verificare a planului unit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entru a vă monitoriza propriul progre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zu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produselor-model “ale elevilor”, asupra evaluării, asupra secţiuni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planul unităţ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,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pentru a depista obiectivele care încă nu sunt atins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</a:t>
            </a:r>
            <a:r>
              <a:rPr b="1" lang="ro-RO" sz="2400" spc="-1" strike="noStrike">
                <a:solidFill>
                  <a:srgbClr val="0c2e86"/>
                </a:solidFill>
                <a:latin typeface="Arial"/>
              </a:rPr>
              <a:t>5</a:t>
            </a:r>
            <a:r>
              <a:rPr b="1" lang="ro-RO" sz="22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22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1520" y="1371600"/>
            <a:ext cx="821700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Trecerea în revistă a modulul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P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ncte chei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rea ar trebui integrată întregului proiect şi să vizeze toate scopurile propus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rea centrată pe elev ar trebui să se axeze, atât pe conţinuturi, cât şi pe abilităţile necesare în secolul XXI, şi să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defin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scă conţinuturile şi deprinderile î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n contex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 proiectulu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Tabelul de descriptori conţin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criterii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col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oana din stâng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)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-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are identifică obiective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descriptor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ii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oloana din dreapta)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 -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are descriu nivelul de performanţă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rea evaluării sumative pentru stabilirea calităţii produselor şi a performanţelo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Activit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tea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5</a:t>
            </a:r>
            <a:br>
              <a:rPr sz="24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1640" y="1863360"/>
            <a:ext cx="82677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2: Consemnarea experienţei de învăţare pe blog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flectaţi, pe blog-ul personal, asupra activităţilor, deprinderilor şi abordărilor vizate de acest mod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flectaţi asupra modului în care elementul central al acestui modul v-a folosit în planificarea şi crearea unităţii dvs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um voi evalua învăţarea elevil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um voi implica elevii în procesul de evalu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veţi în vedere modul în care cunoştinţele acumulate în cadrul acestui modul vă vor influenţa predarea şi implicit, învăţarea elevilor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aceţi referire la elementele cheie ale învăţării, la eventuale întrebări şi aspecte ce mai trebuiesc lămurite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000"/>
            </a:br>
            <a:br>
              <a:rPr sz="900"/>
            </a:br>
            <a:r>
              <a:rPr b="1" lang="en-US" sz="9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Planificarea în avans a activităţii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Trecerea în revistă a propriilor produse-model “ale elevilor”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33080" y="1924200"/>
            <a:ext cx="8265960" cy="37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foldere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roduse-model “ale elevilor”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 ambele tipuri de produse personale, pe baz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scriptorilor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e la pagin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5.16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a întrebărilor de la pagina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5.18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-vă produsul-model creat, folosind instrumentul de evaluare creat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descriptor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încercuiţ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ul c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reflec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el mai bine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Continu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aţi încercuirea în funcţie de nivelul de performanţă relevat de produ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un ghid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e scor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folosiţi-l pentru scorarea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ui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Notaţi-vă orice modificare necesară, fie pentru produsul-model, fie pentru instrument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F7B3-AFB7-4033-8488-F573B637950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Modulul 6: Proiectarea pentru obţinerea succesului în învăţ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52400" y="1190520"/>
          <a:ext cx="7405920" cy="4300560"/>
        </p:xfrm>
        <a:graphic>
          <a:graphicData uri="http://schemas.openxmlformats.org/drawingml/2006/table">
            <a:tbl>
              <a:tblPr/>
              <a:tblGrid>
                <a:gridCol w="2368800"/>
                <a:gridCol w="5037120"/>
              </a:tblGrid>
              <a:tr h="430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ul central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Sprijinirea elevului şi stimularea autonomiei în învăţ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trateg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nstru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diferen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a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nei evaluări pentru stimula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nomiei elevului în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material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port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lan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ui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Unit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ţii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a includ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e de susţinere a învăţării pentru toţi elev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blog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c2e86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D:\danav\logo SVC\2007-03-05LogoSIVECO15aniCertif_Ro.jpg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E:\Cantemir 1\GM__2313.jpg"/>
          <p:cNvPicPr/>
          <p:nvPr/>
        </p:nvPicPr>
        <p:blipFill>
          <a:blip r:embed="rId1"/>
          <a:stretch/>
        </p:blipFill>
        <p:spPr>
          <a:xfrm>
            <a:off x="9360" y="3024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411444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–Predarea în societatea cunoaşterii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25480" y="52574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rea proiectelor elevilor</a:t>
            </a:r>
            <a:endParaRPr b="0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7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125280" y="714240"/>
            <a:ext cx="1774800" cy="8859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682640" y="698400"/>
            <a:ext cx="71596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Motto : </a:t>
            </a:r>
            <a:r>
              <a:rPr b="1" i="1" lang="es-ES" sz="2800" spc="-1" strike="noStrike">
                <a:solidFill>
                  <a:srgbClr val="ffff00"/>
                </a:solidFill>
                <a:latin typeface="Verdana"/>
              </a:rPr>
              <a:t>Evaluarea corectă a unei nereușite este o reușit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C99E-1659-49B4-9AF0-D684B88C81D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15" descr="D:\danav\Poze\2007-06 (iun.)-17\IM000069.JPG"/>
          <p:cNvPicPr/>
          <p:nvPr/>
        </p:nvPicPr>
        <p:blipFill>
          <a:blip r:embed="rId1"/>
          <a:stretch/>
        </p:blipFill>
        <p:spPr>
          <a:xfrm>
            <a:off x="4741920" y="1654200"/>
            <a:ext cx="4437000" cy="2925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885960"/>
            <a:ext cx="42670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evilor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3200" y="5370480"/>
            <a:ext cx="809964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203040"/>
            <a:ext cx="444168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  <a:ea typeface="Times New Roman"/>
              </a:rPr>
              <a:t>Unde ne află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1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edarea prin proiec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a bazată pe proiect şi designul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nităţi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2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propriei u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it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generatoare ale unităţii de învăţare şi evaluarea continuă centrată pe ele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3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lizarea conexiun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net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ca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port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 predării şi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4: Cre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 unor </a:t>
            </a:r>
            <a:br>
              <a:rPr sz="1600"/>
            </a:b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-mode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e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l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levilor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(pre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nt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public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ţi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wiki, blog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30A2-4716-477D-8E22-6336168CB12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1480" y="4432320"/>
            <a:ext cx="8607240" cy="16113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area esenţial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se poate folosi, efectiv, tehnologia informaţie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entru a sprijini şi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ările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implica elevii în proces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31840" y="542880"/>
          <a:ext cx="8607240" cy="3886200"/>
        </p:xfrm>
        <a:graphic>
          <a:graphicData uri="http://schemas.openxmlformats.org/drawingml/2006/table">
            <a:tbl>
              <a:tblPr/>
              <a:tblGrid>
                <a:gridCol w="2535120"/>
                <a:gridCol w="60721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rea proiectelor elevi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valuarea formativă şi sumativ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a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Ob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ine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feedback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în scopul îmbunătăţirii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el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alităţilor de implicare a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evaluarea practicilor curente de evaluare folosite de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lizarea unui prim rezumat al evaluării pentru unitatea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 unei evaluăr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-model pentru elevi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duselor-model pentru elevi, pe baza evaluări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priului plan al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A4AB-E370-478F-A486-A7561E91505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1036"/>
          <p:cNvSpPr/>
          <p:nvPr/>
        </p:nvSpPr>
        <p:spPr>
          <a:xfrm>
            <a:off x="174600" y="285840"/>
            <a:ext cx="8461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Către ce ne îndreptă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1037"/>
          <p:cNvSpPr/>
          <p:nvPr/>
        </p:nvSpPr>
        <p:spPr>
          <a:xfrm>
            <a:off x="203040" y="1509840"/>
            <a:ext cx="4456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6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entru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cces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în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e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timularea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utonomi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i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î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7: Facilit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cesului de predare –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-evaluare prin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mediul t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hnolog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ei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formaţie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facilitat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Prezentarea portofoliilor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Discutarea rezultatelor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769ed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769ed"/>
                </a:solidFill>
                <a:latin typeface="Verdan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043" descr="E:\Cantemir 1\GM__2346.jpg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260280" y="4092480"/>
            <a:ext cx="43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5EAD-76A6-4A4E-8832-2BC0EEE38CA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659480" y="272880"/>
            <a:ext cx="4484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732200" y="2379600"/>
            <a:ext cx="441180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6" descr="E:\Cantemir 1\GM__2186.jpg"/>
          <p:cNvPicPr/>
          <p:nvPr/>
        </p:nvPicPr>
        <p:blipFill>
          <a:blip r:embed="rId1"/>
          <a:stretch/>
        </p:blipFill>
        <p:spPr>
          <a:xfrm>
            <a:off x="0" y="285840"/>
            <a:ext cx="3962520" cy="4895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4489560" y="0"/>
            <a:ext cx="4654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Lucru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l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 în perechi şi schimb de opini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5 min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.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rea f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eedback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-ulu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în scopul îmbunătăţirii produselor-model “ale elevilor”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(5.0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192560" y="2160720"/>
            <a:ext cx="495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769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scutaţi cu un coleg propriul produs-model creat pentru elev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olicitaţi sugest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u privire la modul în care vă puteţi îmbunătăţi model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ți şi folosiţi fişa de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 “ale elevilor”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 la (4.19) (Mod 4 planificarea în avans) pentru repe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l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în discuţi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DC44-0CE2-43CD-AD9E-8BDE080747A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1680" y="272520"/>
            <a:ext cx="8301240" cy="13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Pract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i p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edagog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e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20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 min)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Implicarea elevilor în procesul de evaluare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2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6640" y="1496880"/>
            <a:ext cx="839628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Împărţiţi-vă în grupur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brainstormingul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pentru a alcătui o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listă de probleme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e care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fesorul le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oate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întâmpină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atunci când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implică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elevii în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rocesul de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evaluare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. discutaţi în grupul dvs. următoarel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c2e86"/>
                </a:solidFill>
                <a:latin typeface="Verdana"/>
              </a:rPr>
              <a:t>Care dintre probleme vor fi pentru dvs. cel mai greu de depăşit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c2e86"/>
                </a:solidFill>
                <a:latin typeface="Verdana"/>
              </a:rPr>
              <a:t>Ce soluţii gasiţi pentru a rezolva aceste probleme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Scrieţi ideile grupului pe site-ul wiki, sectiunea discuţii Modul 5 sub forma unui tabel cu două coloane – </a:t>
            </a:r>
            <a:r>
              <a:rPr b="1" lang="ro-RO" sz="2000" spc="-1" strike="noStrike">
                <a:solidFill>
                  <a:srgbClr val="ff5c00"/>
                </a:solidFill>
                <a:latin typeface="Verdana"/>
              </a:rPr>
              <a:t>Provocări şi Soluţii </a:t>
            </a:r>
            <a:r>
              <a:rPr b="1" lang="ro-RO" sz="2000" spc="-1" strike="noStrike">
                <a:solidFill>
                  <a:srgbClr val="ff0000"/>
                </a:solidFill>
                <a:latin typeface="Verdana"/>
              </a:rPr>
              <a:t>http://isc4lugojna.wikispaces.com/Modul+5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Treceţi în revistă şi ideile celorlalte grupuri şi eventual revizuiți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8F7F-67C4-481A-B77D-BDEC51C10C0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2920" y="30132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Activitatea 1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 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(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4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0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min.)</a:t>
            </a:r>
            <a:br>
              <a:rPr sz="1400"/>
            </a:br>
            <a:r>
              <a:rPr b="0" lang="ro-RO" sz="2800" spc="-1" strike="noStrike">
                <a:solidFill>
                  <a:srgbClr val="0c2e86"/>
                </a:solidFill>
                <a:latin typeface="Verdana"/>
              </a:rPr>
              <a:t>Analiza strategiilor de evaluare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6240" y="1523880"/>
            <a:ext cx="88977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Reflect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re asupra evaluării practicate la clasă,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Teoria si practica evaluării,</a:t>
            </a:r>
            <a:r>
              <a:rPr b="1" lang="vi-VN" sz="1800" spc="-1" strike="noStrike">
                <a:solidFill>
                  <a:srgbClr val="0860a8"/>
                </a:solidFill>
                <a:latin typeface="Verdana"/>
              </a:rPr>
              <a:t> Disfuncţii în evaluarea pedagogică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.</a:t>
            </a:r>
            <a:br>
              <a:rPr sz="1800"/>
            </a:b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4)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 Modulul 5 activitatea 1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tipurilor de evaluare practicate de dumneavoastră, la clasă, până în prezent. </a:t>
            </a:r>
            <a:r>
              <a:rPr b="0" lang="ro-RO" sz="1800" spc="-1" strike="noStrike">
                <a:solidFill>
                  <a:srgbClr val="ff0000"/>
                </a:solidFill>
                <a:latin typeface="Verdana"/>
              </a:rPr>
              <a:t>Analizaţi documentele Evaluare X de pe wik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Opţional - Accesaţi Intel</a:t>
            </a:r>
            <a:r>
              <a:rPr b="0" lang="ro-RO" sz="1800" spc="-1" strike="noStrike" baseline="30000">
                <a:solidFill>
                  <a:srgbClr val="0c2e86"/>
                </a:solidFill>
                <a:latin typeface="Verdana"/>
              </a:rPr>
              <a:t>®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Education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Assessing Project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analizaţi un plan de evalua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http://educate.intel.com/ro/assessingprojects/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Notaţi ideile pe care aţi dori să le folosiţi în planul dvs. de 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2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: Analizarea planului evaluării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(5.06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alizaţi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lanului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(5.06)Modulul 5 activitatea 1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335-896C-42D6-8D36-D75FC94E928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2680" y="2872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oră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ş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4240" y="1625760"/>
            <a:ext cx="8969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Foc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liza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priul p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 de evaluar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ul unităţii de învăţare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revizuiţi-vă schiţa de la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Planificarea evaluării – Grafic de tim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tilizaţi fişierul </a:t>
            </a:r>
            <a:r>
              <a:rPr b="1" i="1" lang="ro-RO" sz="1800" spc="-1" strike="noStrike" u="sng">
                <a:solidFill>
                  <a:srgbClr val="0c2e86"/>
                </a:solidFill>
                <a:uFillTx/>
                <a:latin typeface="Verdana"/>
              </a:rPr>
              <a:t>Planificarea evaluării elevilor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– CD Modul 5/Activitatea 2 pentru a stabili şi descrie instrumentele de evaluare pe care le veţi utiliza pe parcursul unităţi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onsultaţi şi </a:t>
            </a:r>
            <a:r>
              <a:rPr b="1" i="1" lang="ro-RO" sz="1800" spc="-1" strike="noStrike">
                <a:solidFill>
                  <a:srgbClr val="c00000"/>
                </a:solidFill>
                <a:latin typeface="Verdana"/>
              </a:rPr>
              <a:t>Planul de evaluare</a:t>
            </a:r>
            <a:r>
              <a:rPr b="0" i="1" lang="ro-RO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activitatea anterioară la care aţi adăugat propriile notiţ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alvaţi  şi utilizaţi </a:t>
            </a:r>
            <a:r>
              <a:rPr b="1" lang="ro-RO" sz="1800" spc="-1" strike="noStrike">
                <a:solidFill>
                  <a:srgbClr val="c00000"/>
                </a:solidFill>
                <a:latin typeface="Verdana"/>
              </a:rPr>
              <a:t>Lista de verificare a planului evaluării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 directorul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 Portofoliu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Ad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ugaţi noi tehnici/instrumente de evaluare în secţiune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ificarea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in p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ţii dvs. de învăţ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cepeţi lucrul la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Rezumat/Sumar evaluare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in </a:t>
            </a:r>
            <a:r>
              <a:rPr b="1" lang="ro-RO" sz="1800" spc="-1" strike="noStrike">
                <a:solidFill>
                  <a:srgbClr val="c00000"/>
                </a:solidFill>
                <a:latin typeface="Verdana"/>
              </a:rPr>
              <a:t>Planul Unităţii de Învăţare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lanuri de evaluare – exemple reprezenta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info2</cp:lastModifiedBy>
  <cp:lastPrinted>2006-11-14T00:45:04Z</cp:lastPrinted>
  <dcterms:modified xsi:type="dcterms:W3CDTF">2011-04-01T12:59:01Z</dcterms:modified>
  <cp:revision>414</cp:revision>
  <dc:subject/>
  <dc:title>Presentation Title Goes Here</dc:title>
</cp:coreProperties>
</file>